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C0F8-DE72-4CB6-918E-FDACAEBA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1918-AAE9-473F-B9DB-FDDB2A68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9F78-CFD2-4790-8591-4D285C60C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3839-B1B4-4048-B13E-E60B49926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83D0-52BF-447E-AF60-28E12659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CB89-2603-40F2-9995-2F2E93A7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1802-A47E-49CF-A739-3E456965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E19F-4F38-4D64-9D89-632ED41D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7DF3-380F-4959-9262-075D9AF1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B672-4597-4091-A127-2C9CEC67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AA6D-418F-4009-A519-3E21AD56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2BD1-5D2D-43C9-B2B8-332451C2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1D10-2275-4663-94A8-D379517F9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utlander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pic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Just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inventory costs and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quality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ce products competitiv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cash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Pri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r than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large margin of profit for distribu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nd loy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Inven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n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ansion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128680"/>
            <a:ext cx="2971800" cy="538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838080" y="3047400"/>
            <a:ext cx="243864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2971800"/>
            <a:ext cx="2514600" cy="60948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819520" y="26668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66688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4572000"/>
            <a:ext cx="18288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4419720"/>
            <a:ext cx="1676520" cy="8380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5638680"/>
            <a:ext cx="1524240" cy="9144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15200" y="5638680"/>
            <a:ext cx="1828800" cy="990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52120" y="3581280"/>
            <a:ext cx="22860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72200" y="3581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924680" y="3581280"/>
            <a:ext cx="457200" cy="2057400"/>
          </a:xfrm>
          <a:prstGeom prst="downArrow">
            <a:avLst>
              <a:gd name="adj1" fmla="val 50000"/>
              <a:gd name="adj2" fmla="val 11250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209680"/>
            <a:ext cx="25146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lander Sp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56120" y="30132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3013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5720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kiosks in 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441972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osks in W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48720" y="5867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5638680"/>
            <a:ext cx="186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osks in Mid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y on Fri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weeks va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% of the profits to sta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 lunch every Wednes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 parking for one mon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bd06518_" descr=""/>
          <p:cNvPicPr/>
          <p:nvPr/>
        </p:nvPicPr>
        <p:blipFill>
          <a:blip r:embed="rId1"/>
          <a:stretch/>
        </p:blipFill>
        <p:spPr>
          <a:xfrm>
            <a:off x="685800" y="2565360"/>
            <a:ext cx="3809880" cy="2946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1752480" y="533520"/>
            <a:ext cx="5410440" cy="1028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elebratio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523880" y="2209680"/>
          <a:ext cx="6096240" cy="37782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f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% growth in prof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er than compet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ventory turno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 faster than compet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% of inventory costs sa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ject Te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9480" y="1676520"/>
          <a:ext cx="82296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82296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23:23:38Z</dcterms:created>
  <dc:creator>Nilanjana</dc:creator>
  <dc:description/>
  <dc:language>en-US</dc:language>
  <cp:lastModifiedBy>Veena Srinivas Balram</cp:lastModifiedBy>
  <dcterms:modified xsi:type="dcterms:W3CDTF">1999-12-29T10:55:15Z</dcterms:modified>
  <cp:revision>17</cp:revision>
  <dc:subject/>
  <dc:title>OUTLANDER SPICES</dc:title>
</cp:coreProperties>
</file>