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277-69A5-430E-ABB8-89E60C4F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6C0-CC3D-4563-A6B0-D5DFD9C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06B-C04B-4C31-9259-1F79861D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C3B-2DBB-4CA1-8DA5-83AF6F45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D37-3B2A-4C6D-9A1E-C730F67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3E5-F1F8-4468-ABA8-1A5487D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CA7-A8B9-4667-AD17-6B3DA358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798-D1CA-4682-A823-A15F6965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ABD-B022-4F32-9F9B-395EEB4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F85-8470-4F5F-B1EC-A2B76A1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1CB-08E1-4C75-B8FB-1C6AEE8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F93-47A7-4CAA-83F5-7C4976A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61DC-1AA3-4448-8FB0-AAE01AC15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3581280"/>
            <a:ext cx="381240" cy="2057400"/>
          </a:xfrm>
          <a:prstGeom prst="downArrow">
            <a:avLst>
              <a:gd name="adj1" fmla="val 50000"/>
              <a:gd name="adj2" fmla="val 13491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4952880"/>
            <a:ext cx="2361960" cy="8384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638680"/>
            <a:ext cx="19810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48320"/>
            <a:ext cx="23623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38480"/>
            <a:ext cx="236196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7228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440" y="419112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952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5867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 &amp; M Goldenberg</cp:lastModifiedBy>
  <dcterms:modified xsi:type="dcterms:W3CDTF">2000-01-09T17:51:23Z</dcterms:modified>
  <cp:revision>18</cp:revision>
  <dc:subject/>
  <dc:title>OUTLANDER SPICES</dc:title>
</cp:coreProperties>
</file>