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E6E2-7993-413B-AD70-8CECA61AC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file will guide you through the company’s strategy, performance,and  expansion plans. You will also get a brief introduction to the team members who have made Outlander Spices such a recognized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ander Spices bases its market strategy on the points mentioned above. It is because of these efforts that the company has captured such a large market sh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ander Spices’ performance brings in more investors and distributors. The company hopes that all of those who are attending this presentation will become investors in near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rt shows the company’s performance in terms of numeric data. You also can see that Outlander Spices outperforms its competitors in all of these asp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ander Spices is planning for expansion. On the left, you can see the present number of kiosks; on the right, you can see the areas into which we’re planning to expand our kios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formation provided here is for employees only. It need not be shared with prospective inves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lide shows the names of members of the project team and provides information about the team’s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69E-7B24-4E97-93EC-095A90EA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120-DAFB-475A-9A9E-0ADF8690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B6A-AA51-492A-972A-F11BC394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DEB-1B88-4E91-B7D0-55D3420F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8F25-90AE-44CD-998E-5B208BB6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BE33-31E3-4F7C-AFB1-05F612B9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B4E0-C8DF-4F42-AE0F-062357AF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202F-3CF7-41B2-B730-77FCD3A4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3B41-6050-4FC9-BF40-0AFF3CAA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1E16-76A5-443D-AEBD-2F979F4B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A7D1-5A00-47A6-BEA7-148170CB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42D-3FD9-49AB-87FE-653C5645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3184-D88E-420F-8088-BD239E9F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81CF-5224-4B8F-B1F6-2F5E5F5B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6353-8034-4080-8ADC-CDEDC03B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1FC0-8175-43A1-A605-FBE2D8A5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09D6-1026-4156-86E9-66F92404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2B6-6DF0-486D-9009-460C8EDA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8A6-7190-4474-9ED8-5E067312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AB0D-EA85-47B9-A7B7-6D44187A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374-4524-46A0-B8CA-36F1EFFD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5506-5610-42BB-AF0C-B4170F0E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67D-4B81-42C9-93E6-F1BD8271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8FB-5A49-4F38-96E5-5A797BC7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0B23-8D1B-4875-ABA3-A99EAFF5F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DE8B-7315-4AB1-99AC-261E19F7A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669960"/>
            <a:ext cx="6248160" cy="19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 Black"/>
              </a:rPr>
              <a:t>Outlander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1" lang="en-US" sz="6000" spc="-1" strike="noStrike">
                <a:solidFill>
                  <a:srgbClr val="003300"/>
                </a:solidFill>
                <a:latin typeface="Arial Black"/>
              </a:rPr>
              <a:t>Spices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roject Justific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inventory costs and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quality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 products competi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cash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than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large margin of profit for distribu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 loy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3880" y="2209680"/>
          <a:ext cx="6096240" cy="37782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% growth in prof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ory turn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 fast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 of inventory costs sa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xpansion Projec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2128680"/>
            <a:ext cx="2971800" cy="5382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838080" y="3047400"/>
            <a:ext cx="243864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2971800"/>
            <a:ext cx="2514600" cy="6094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819520" y="26668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26668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572000"/>
            <a:ext cx="18288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419720"/>
            <a:ext cx="1676520" cy="8380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638680"/>
            <a:ext cx="1524240" cy="9144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5638680"/>
            <a:ext cx="182880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752120" y="3581280"/>
            <a:ext cx="2286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3581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3581280"/>
            <a:ext cx="457200" cy="2057400"/>
          </a:xfrm>
          <a:prstGeom prst="downArrow">
            <a:avLst>
              <a:gd name="adj1" fmla="val 50000"/>
              <a:gd name="adj2" fmla="val 1125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ander Sp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56120" y="3013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013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4572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kio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44197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5867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5638680"/>
            <a:ext cx="186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in Mid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073040" y="1981080"/>
            <a:ext cx="369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y on Fri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weeks va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 of the profits to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lunch every Wedne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parking for one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bd06518_" descr=""/>
          <p:cNvPicPr/>
          <p:nvPr/>
        </p:nvPicPr>
        <p:blipFill>
          <a:blip r:embed="rId1"/>
          <a:stretch/>
        </p:blipFill>
        <p:spPr>
          <a:xfrm>
            <a:off x="228600" y="2565360"/>
            <a:ext cx="3699000" cy="2946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752480" y="533520"/>
            <a:ext cx="5410440" cy="1028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elebra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he Project Tea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2341440"/>
          <a:ext cx="8229600" cy="30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41440"/>
                    <a:ext cx="8229600" cy="30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23:23:38Z</dcterms:created>
  <dc:creator>Nilanjana</dc:creator>
  <dc:description/>
  <dc:language>en-US</dc:language>
  <cp:lastModifiedBy>Bryn Cope</cp:lastModifiedBy>
  <dcterms:modified xsi:type="dcterms:W3CDTF">2000-08-31T15:27:51Z</dcterms:modified>
  <cp:revision>24</cp:revision>
  <dc:subject/>
  <dc:title>OUTLANDER SPICES</dc:title>
</cp:coreProperties>
</file>