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B959-8F3D-474C-9689-1621B0A75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the audience to introduce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your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handouts to the aud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4F7-B8D9-439A-AF74-8B4B8A49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152-E826-4F80-8A77-9440E1F2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75F-1F8D-47A4-AD0A-20C1E630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12F-AA00-489F-9346-9AD55673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CFC0-B221-482C-9590-E49096F9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3E31-9C56-4866-B12A-D69C08EE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B291-39A0-40E7-9F8A-84615D3E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A298-4529-4743-B90C-4A298062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78DB-0189-4D9C-B2D6-57B0DC5B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83D1-B360-4DD1-8A36-4C51E7B5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7291-1E88-4746-B33D-9CC70C09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883-114A-48BA-8697-1C22BD05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7B01-666B-4683-AEA9-2B13C912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2450-A745-4955-88DC-0572EE6B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4AEA-2948-4F49-96BF-451844FD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5F8B-D1C2-4FAA-A1D0-A867ACD0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9DEC-4A88-4FF8-8F93-154BC6A3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3C0-ED83-46D5-B532-5C0AB1E5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D75-C8A5-4DBD-B551-BB5C7B98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387-332E-4EFB-B2FF-95AE13A4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2E0-EC7E-4246-9980-59F02D32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F4D-31C9-4DDC-81AF-C6452435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562-1708-4BF6-9734-788DD3BD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CA4-7B00-4098-BFDE-82503EA5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144D-2C4F-4CDA-AA73-E282E98183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4A1C-AF71-4125-815E-93C57A9B7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i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ing the Web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ed by: Elise Sech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1752480"/>
          <a:ext cx="6095880" cy="406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ssion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ssion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ke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yment &amp; Delive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stomer Serv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vant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rket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ine order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s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ners at existing out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yment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dit c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liv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er &amp; payment ver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ier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 warehou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stomer Serv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on new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tly asked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i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er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ized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information on the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back from other custo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spec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ba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03:41:08Z</dcterms:created>
  <dc:creator>AnitaSastry</dc:creator>
  <dc:description/>
  <dc:language>en-US</dc:language>
  <cp:lastModifiedBy>V &amp; M Goldenberg</cp:lastModifiedBy>
  <dcterms:modified xsi:type="dcterms:W3CDTF">2000-01-09T18:23:10Z</dcterms:modified>
  <cp:revision>9</cp:revision>
  <dc:subject/>
  <dc:title>Training</dc:title>
</cp:coreProperties>
</file>