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5B8-D993-4D75-AA89-CED57C0B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the audience to introduce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andouts to the aud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D55-4701-4B47-B98A-EAA3660B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B68-A45A-485F-9FD6-C7F286F5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ECC-763E-42CD-AF77-3866DEFD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B47-F2DE-4654-B925-79E3E1B0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0CCE-F96B-49BD-BB54-5E806722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DDE-DB67-4036-9C7F-CE2160F4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B0A-794A-4E6A-B808-D915621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5FB3-C75C-48AC-8F36-E0F3F92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2935-0B2D-4333-BED6-C4A7F39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47EC-5B10-4B91-AAAC-4C27790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FB85-6CFE-492D-8DDB-25CBF092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2B6-C144-4C31-A1B2-7918820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FC12-64C0-47D1-A15C-01E9508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8719-036C-4E54-9567-3ABC4A3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2AB7-8CC1-420E-A994-2B83038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D28A-47CC-4C4B-8CB4-ABE516B9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BD3-7724-48D2-84AB-87C58240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176-2D9C-4594-9798-970233E6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E7B-E977-4B88-813B-E4C64CF0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0EE-6C78-4889-9F2D-75358CC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E59-2764-4580-9339-A524B89A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1BB-7244-48B7-8C40-7CFBA73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773-A9BF-4E53-8811-5CC445D0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B6C-E7FD-41EB-8B72-B8319F6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35D-D81E-48A2-BAC5-BCC266D4D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1652-E718-418C-9AEF-EE20815E1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the Web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by: Elise Sec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75248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yment &amp; Deli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stomer Serv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order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ners at existing out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ymen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it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li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&amp; payment ve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ie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wareho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er Serv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on new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asked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d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nformation on the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from other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3:41:08Z</dcterms:created>
  <dc:creator>AnitaSastry</dc:creator>
  <dc:description/>
  <dc:language>en-US</dc:language>
  <cp:lastModifiedBy>V &amp; M Goldenberg</cp:lastModifiedBy>
  <dcterms:modified xsi:type="dcterms:W3CDTF">2000-01-09T18:23:10Z</dcterms:modified>
  <cp:revision>9</cp:revision>
  <dc:subject/>
  <dc:title>Training</dc:title>
</cp:coreProperties>
</file>