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591-4893-45B4-8483-566F33479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file will guide you through the company’s strategy, performance,and  expansion plans. You will also get a brief introduction to the team members who have made Outlander Spices such a recognized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 bases its market strategy on the points mentioned above. It is because of these efforts that the company has captured such a large market sh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’ performance brings in more investors and distributors. The company hopes that all of those who are attending this presentation will become investors in near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rt shows the company’s performance in terms of numeric data. You also can see that Outlander Spices outperforms its competitors in all of these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 is planning for expansion. On the left, you can see the present number of kiosks; on the right, you can see the areas into which we’re planning to expand our kios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ormation provided here is for employees only. It need not be shared with prospective inves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shows the names of members of the project team and provides information about the team’s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E8D-1184-4B3C-8C6E-AEA811D3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369-B949-4FA9-B130-71D5F634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091-63FB-46A2-A1D4-62F2D9AC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CC4-978E-4F6F-B3B2-129277EA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8DC8-CEB6-4DC3-9704-B3862522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9A17-0697-4A04-8296-A372A401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B5CA-BA0C-4F16-A5A6-386B6142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9E06-E9F8-4CA7-948B-A63C05F9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774A-753F-408E-ADDF-AE129E6F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E091-54F1-4D19-9970-769D3FD2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B418-6390-44AF-8A67-FF424A79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C2D-9BF3-4371-9000-C47B3CB0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1181-798C-4853-B535-AF1B5AB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7C1F-EF50-4F58-87F6-E20AE3F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4DEB-418B-4086-8F18-15815B63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7151-C76B-4742-BB30-B2F77F75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B009-4FD2-47D0-A0BA-A550519D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844-0915-49E9-A281-696B25A8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1BB-5891-4FF3-A4E9-E9D1643A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C2A-BE0C-4B96-AA19-97833B13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1AB-1442-4BA1-AFE6-B20105C4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A37-0CB0-4CC7-85D6-608A606B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824-5BB7-4F68-A51A-957DAA3C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EA4-47CC-4541-9516-2E1A10C7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EFFE-8AF1-4C95-A5A7-66F73929D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AB5E-282F-4438-AF0C-0DB60D0F2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669960"/>
            <a:ext cx="624816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 Black"/>
              </a:rPr>
              <a:t>Outlander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003300"/>
                </a:solidFill>
                <a:latin typeface="Arial Black"/>
              </a:rPr>
              <a:t>Spices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roject Justific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inventory costs and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quality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products competi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cas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xpansion Projec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572000"/>
            <a:ext cx="18288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419720"/>
            <a:ext cx="1676520" cy="8380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638680"/>
            <a:ext cx="152424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5638680"/>
            <a:ext cx="182880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58128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572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5867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563868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73040" y="1981080"/>
            <a:ext cx="369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 on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eeks va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of the profits to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lunch every 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parking for one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bd06518_" descr=""/>
          <p:cNvPicPr/>
          <p:nvPr/>
        </p:nvPicPr>
        <p:blipFill>
          <a:blip r:embed="rId1"/>
          <a:stretch/>
        </p:blipFill>
        <p:spPr>
          <a:xfrm>
            <a:off x="228600" y="2565360"/>
            <a:ext cx="3699000" cy="294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52480" y="533520"/>
            <a:ext cx="5410440" cy="102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eleb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Project Tea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2341440"/>
          <a:ext cx="8229600" cy="30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41440"/>
                    <a:ext cx="8229600" cy="30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Bryn Cope</cp:lastModifiedBy>
  <dcterms:modified xsi:type="dcterms:W3CDTF">2000-08-31T15:27:51Z</dcterms:modified>
  <cp:revision>24</cp:revision>
  <dc:subject/>
  <dc:title>OUTLANDER SPICES</dc:title>
</cp:coreProperties>
</file>