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DAC-0F6C-4F59-96E0-58A701F9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FC3-A271-440D-95C6-A2A2B74E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9BC-BACD-4161-A71A-24D36CE0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370-B17B-4F54-A2AE-B996A42E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F51-4E09-4C40-8396-1ABFEB8C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D1F-5F3A-4EC8-B12D-FC9AF8E9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1D6-5C63-46E7-8265-9536353D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ECC-512C-481D-8176-C9A23660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D01-5C2C-4E60-87B1-C5E09074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530-B908-45DB-AD07-29EE2165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F94-51A2-43D6-BB91-C1FB756A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5A3-87F0-45B1-B35C-DB412D16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3B98-CF24-4F9C-98E2-F2BBACCC7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tlande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pi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Jus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inventory costs and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quality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products competi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cash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than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large margin of profit for distribu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sion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128680"/>
            <a:ext cx="2971800" cy="53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838080" y="3047400"/>
            <a:ext cx="2438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971800"/>
            <a:ext cx="2514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819520" y="26668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666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572000"/>
            <a:ext cx="18288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419720"/>
            <a:ext cx="1676520" cy="8380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5638680"/>
            <a:ext cx="1524240" cy="9144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638680"/>
            <a:ext cx="182880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35812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358128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209680"/>
            <a:ext cx="2514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6120" y="3013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301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57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kiosks in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5867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5638680"/>
            <a:ext cx="18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Mid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y on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eeks va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of the profits to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lunch every Wednes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parking for one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d06518_" descr=""/>
          <p:cNvPicPr/>
          <p:nvPr/>
        </p:nvPicPr>
        <p:blipFill>
          <a:blip r:embed="rId1"/>
          <a:stretch/>
        </p:blipFill>
        <p:spPr>
          <a:xfrm>
            <a:off x="685800" y="2565360"/>
            <a:ext cx="3809880" cy="294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752480" y="533520"/>
            <a:ext cx="5410440" cy="102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elebr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3880" y="2209680"/>
          <a:ext cx="6096240" cy="3778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% growth in pro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ntory turn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fast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 of inventory costs sa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167652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23:38Z</dcterms:created>
  <dc:creator>Nilanjana</dc:creator>
  <dc:description/>
  <dc:language>en-US</dc:language>
  <cp:lastModifiedBy>Veena Srinivas Balram</cp:lastModifiedBy>
  <dcterms:modified xsi:type="dcterms:W3CDTF">1999-12-29T10:55:15Z</dcterms:modified>
  <cp:revision>17</cp:revision>
  <dc:subject/>
  <dc:title>OUTLANDER SPICES</dc:title>
</cp:coreProperties>
</file>