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B62-828B-42F1-B7B2-AACD0D44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398-BAFD-4B68-A1FF-8AB0CE5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C60-44C9-4934-9F1C-CD63A20C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EA0-5F46-4D99-A289-3085AC3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09A-BB11-4EC8-9EB6-4DF1A1C6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76F-9989-4259-A504-49E6AF4A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A49-7908-4962-A21D-55A8B1B1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676-8E77-4F0C-95EC-B19D3D5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55A-C402-4B90-8E5D-2A38CB05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4D0-8189-4302-B1E1-7FA2916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617-F574-4340-BE4A-7738C1C3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8B1-1A79-4B7A-A743-37310D6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F10B-C506-49B1-ADC9-6CB013222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3581280"/>
            <a:ext cx="381240" cy="205740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4952880"/>
            <a:ext cx="2361960" cy="8384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638680"/>
            <a:ext cx="1981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23623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38480"/>
            <a:ext cx="236196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7228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440" y="41911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952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5867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 &amp; M Goldenberg</cp:lastModifiedBy>
  <dcterms:modified xsi:type="dcterms:W3CDTF">2000-01-09T17:51:23Z</dcterms:modified>
  <cp:revision>18</cp:revision>
  <dc:subject/>
  <dc:title>OUTLANDER SPICES</dc:title>
</cp:coreProperties>
</file>